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95F-A131-4FDF-A781-BD27F6E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544-0286-4415-B93C-5E882ED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B91F-90F2-4F39-A454-8D5CE58F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84A-BFFA-4090-B4A2-7ACCB0C4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D603-64B3-4A41-A0DE-968B2521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033-FD8A-4EA6-A509-E1F939B2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69A-CB0C-4B70-BC45-A844B41F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491-D827-4555-9264-35C0AEC5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F1B-4367-4A39-A3F0-8B571258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DA2-6322-4D3A-AE89-E4F4CEB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88D-32F7-44E0-BB99-875BEB2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078-E50E-4456-A5F4-0E99EA4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90C-1CB7-480A-BF52-15D3BDC1C0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2997360"/>
            <a:ext cx="55450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Section A 1 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2a—2d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5076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-674640"/>
            <a:ext cx="8425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Unit 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at's the highest mountain in the world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620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95008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4133880"/>
            <a:ext cx="871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国的长城共有近一万公里，东起河北秦皇岛的山海关，西到嘉峪关，这是明代修筑长城的两个最大关口，北京境内的长城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余公里，比较著名的有八达岭长城、金山岭长城、司马台长城、慕田峪长城、居庸关长城和箭扣长城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65880" y="26676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Great 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0360" y="907920"/>
            <a:ext cx="8388360" cy="3111480"/>
            <a:chOff x="360360" y="907920"/>
            <a:chExt cx="8388360" cy="311148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360360" y="907920"/>
              <a:ext cx="4537080" cy="30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003640" y="966600"/>
              <a:ext cx="3745080" cy="3052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712800"/>
            <a:ext cx="7632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d Read the conversatio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swer the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2027160"/>
            <a:ext cx="7921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ich is the biggest man-made objects in the wor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ich is the most famous part of the Ming Great W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31480" y="3435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Great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8360" y="5451480"/>
            <a:ext cx="51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adaling part of the w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79480" y="5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720" y="8100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Task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349280"/>
            <a:ext cx="8642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ell fre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ask me anything on today’s Great Wall t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今天的长城游中，大家尽管问我任何问题，不要拘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870360"/>
            <a:ext cx="8065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ll free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英语口语中一个常用表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若有人让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el free to do someth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就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让你无需拘束，只管按照自己的意愿去做某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640" y="476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Language point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90560" y="3898800"/>
            <a:ext cx="7742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 far as I kn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是一个固定的表达方式，还可以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 far as I kn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意思是“据我所知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62000"/>
            <a:ext cx="835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 far as I kn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there are no man-made objects as big as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据我所知，再没有像它这样大的人造物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76360" y="1019160"/>
            <a:ext cx="655164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el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ost popula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lk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ing Dyna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cient empe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in 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far as I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ing Great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476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summary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long is the w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bout 8,850 kilo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makes it the longest w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the most famous 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1052640"/>
            <a:ext cx="5616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Homework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800" y="2933640"/>
            <a:ext cx="79012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To memorize the important phra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To make some dialogues us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: Preview the passage in 3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Review the important phrases    and          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Students show their convers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Ask students to read the n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ords an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listen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about some famous places using superl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7280" y="293760"/>
            <a:ext cx="85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task  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2a  Listen and number the facts(1- 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order you hea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6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5120" y="3255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484280"/>
            <a:ext cx="633744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300     5,000      5,464      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390760"/>
            <a:ext cx="88934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The Yangtze River is about ____ kilometers long and the Yellow River is  ___ kilometers lo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China has the biggest population in the world. It’s a lot bigger than the population of the 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China is over ___ years old. It has a much longer history than the US. The US is not even ___ years o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___ China is almost as big as the US, but it is the biggest country in As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" y="403920"/>
            <a:ext cx="45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s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720" y="224640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7640" y="322416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5440" y="411804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5440" y="5384880"/>
            <a:ext cx="397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812000" y="1268280"/>
            <a:ext cx="860400" cy="860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7280" y="331920"/>
            <a:ext cx="853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Task 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2b  Listen again and fill in the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2a with the numbers in the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496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5120" y="321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42920" y="1700280"/>
            <a:ext cx="633744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300     5,000      5,464      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565360"/>
            <a:ext cx="856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The Yangtze River is about _______ kilometers long and the Yellow River is ______ kilo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China has the biggest population in the world. It’s a lot bigger than the population of th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26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812000" y="163188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9440" y="2637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,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0720" y="39337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,4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03280" y="1268280"/>
            <a:ext cx="8101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China is over ______ years old. It has a much longer history than the US. The US is not even ___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 China is almost as big as the US, but it is the biggest country in As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8720" y="1268280"/>
            <a:ext cx="120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9080" y="2563920"/>
            <a:ext cx="86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9640" y="1563840"/>
            <a:ext cx="80805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c Make conversations using th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nformation in 2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862360"/>
            <a:ext cx="8497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Did you know that China is one of the oldest countries in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I did. it’s much older than my count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56000" y="476280"/>
            <a:ext cx="381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Practic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720" y="8100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Task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268280"/>
            <a:ext cx="8497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Did you know that Yangtze River is the longest river in Chi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Yes, I did. It’s 6,300 meters l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Wow! That’s lo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7:15:11Z</dcterms:created>
  <dc:creator/>
  <dc:description/>
  <dc:language>en-US</dc:language>
  <cp:lastModifiedBy/>
  <dcterms:modified xsi:type="dcterms:W3CDTF">2015-04-06T09:14:40Z</dcterms:modified>
  <cp:revision>1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